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.png" ContentType="image/png"/>
  <Override PartName="/ppt/media/image25.png" ContentType="image/png"/>
  <Override PartName="/ppt/media/image23.jpeg" ContentType="image/jpeg"/>
  <Override PartName="/ppt/media/image18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17.jpeg" ContentType="image/jpeg"/>
  <Override PartName="/ppt/media/image14.png" ContentType="image/png"/>
  <Override PartName="/ppt/media/image15.jpeg" ContentType="image/jpeg"/>
  <Override PartName="/ppt/media/image24.png" ContentType="image/png"/>
  <Override PartName="/ppt/media/image1.png" ContentType="image/pn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0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11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12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53BEE-22CF-4524-B97E-6C1EBECAEC2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5B347-8C14-4E53-AC43-2C699437B06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егодня многие семьи переживают тяжелый кризис. Утрачено значительное число семейно-нравственных традиций, изменилось отношение родителей к детям. В новых кризисных условиях семья не готова взять на себя ответственность за воспитание детей, так как изменившиеся экономические условия заставляют родителей большей частью искать источники существования; а не заниматься вопросами воспитания детей в семье. В этой ситуации неустойчивые семьи стали более нестабильными и деградируют, фактически бросая своих детей на произвол судьб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худшается психологический климат и в устойчивых семьях. Резкое увеличение стрессовых ситуаций у родителей сказывается на детях. Именно семейное неблагополучие является предпосылкой разных деформаций процесса социализации личности ребенка, что проявляется, в конечном счете, в безнадзорности либо беспризорности несовершеннолетн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благополучие семьи обычно отражается на всех сферах жизни ребенка: школьная успеваемость снижается, появляется отчуждение к школе, уличная компания становится заменой авторитета родителей, в ней ребенок старается получить призн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F4877-9FE2-4665-AB7B-436B3134820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DE9C8-E245-4CC7-BAD6-C87DD395BC3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2DCB8-74EC-4F93-8E77-12FE17BC537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0C2F1-DBD6-471C-9BE6-CC44B6CBC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44196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9C948-7395-4DCB-ADE4-736A517FD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233172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AEE15-5816-4034-AF42-2813EF945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69416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93076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169416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293076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BBC31-C4C7-4869-9096-47099AB60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5605D3-9105-4D33-BE8E-84CD351B1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494ED9-C60F-422C-9EE6-DD64C4870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4B3072-4A07-4E7F-9E51-6D8440DFD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7523E3-9BE7-4756-A4E1-25E09DCB9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1DBA32-C739-4814-B5E4-BA8786E92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876560" y="6845040"/>
            <a:ext cx="281916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83A5AA-CC77-4E7C-A665-837BF28F2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C9377E-840A-4090-9439-A8F1873A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1FCCB-4586-443F-A014-2D89A6CAC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33172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CE2C65-8DAB-4CF4-8A70-A4F5E815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8749AA-BF8E-4A00-A73A-83DF5AFF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44196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FA632C-2429-4CD5-80B1-F0F561EFE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33172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65A9D0-3E24-4513-BFC1-81D1655B5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69416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93076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169416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293076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FE2A9A-9A18-42AC-931F-7E1D9B0FA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A649A8-C633-4939-A85F-BFDC7683E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03819D-A73F-4F31-9B1F-74D2EC2F8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54BA9D-7CD5-49D4-9685-5B0337490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611B4B-061F-4EC7-A4AC-C58D5BF38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15987E-E7B3-43EF-A901-E11943656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E026E-F443-441E-AE65-9E547816A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876560" y="6845040"/>
            <a:ext cx="281916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D1B18F-2AA0-4C66-A406-A6F38A530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1701BF-3E70-41B6-9709-5E08D2B2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33172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BE2965-BF31-45DA-A5DD-8CBD2BCF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7E1AFF-1F3D-4D53-A560-90D1DDCD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44196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BA4BD4-AB42-449C-9CA5-BAF688416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233172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0F8CAD-F612-48F6-8A58-21F0BAD0C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69416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293076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169416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293076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DB3E79-CE17-4E62-96A9-6468F9F68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EE5D0-112B-4D4D-AF0C-F888D622C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DD01C-AA93-43E3-8604-48265A88D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876560" y="6845040"/>
            <a:ext cx="281916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03888-FF04-458D-8050-168828CA3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68E21-9BA0-4EC0-B415-7D2C446F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33172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4EF7F-F570-40B5-9F20-BF5E86A2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7CC6F-B53B-4D97-AD92-B8F9E925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sphere2.png"/>
          <p:cNvPicPr/>
          <p:nvPr/>
        </p:nvPicPr>
        <p:blipFill>
          <a:blip r:embed="rId2"/>
          <a:stretch/>
        </p:blipFill>
        <p:spPr>
          <a:xfrm>
            <a:off x="8823240" y="0"/>
            <a:ext cx="3207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1112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59364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77616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95868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95868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95868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772400" y="6400440"/>
            <a:ext cx="5335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E6AF1-E588-4DDA-B8C6-1DA10C19AD9B}" type="slidenum">
              <a:rPr b="0" lang="ru-RU" sz="10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4876560" y="6426360"/>
            <a:ext cx="2819160" cy="1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4875120" y="6295680"/>
            <a:ext cx="28209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1" descr="sphere2.png"/>
          <p:cNvPicPr/>
          <p:nvPr/>
        </p:nvPicPr>
        <p:blipFill>
          <a:blip r:embed="rId2"/>
          <a:stretch/>
        </p:blipFill>
        <p:spPr>
          <a:xfrm>
            <a:off x="8823240" y="0"/>
            <a:ext cx="32076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sphere1.png"/>
          <p:cNvPicPr/>
          <p:nvPr/>
        </p:nvPicPr>
        <p:blipFill>
          <a:blip r:embed="rId3"/>
          <a:stretch/>
        </p:blipFill>
        <p:spPr>
          <a:xfrm>
            <a:off x="6850080" y="0"/>
            <a:ext cx="22939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1112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59364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77616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95868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95868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95868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582720" y="6426360"/>
            <a:ext cx="2819160" cy="1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415200" y="6400440"/>
            <a:ext cx="45720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C5FC8-A57A-4C86-91A0-1BBEF1439E1D}" type="slidenum">
              <a:rPr b="0" lang="ru-RU" sz="10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3581280" y="6295680"/>
            <a:ext cx="28209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sphere1.png"/>
          <p:cNvPicPr/>
          <p:nvPr/>
        </p:nvPicPr>
        <p:blipFill>
          <a:blip r:embed="rId2"/>
          <a:stretch/>
        </p:blipFill>
        <p:spPr>
          <a:xfrm>
            <a:off x="6858000" y="0"/>
            <a:ext cx="229392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1112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59364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77616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95868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95868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95868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839520" y="6426360"/>
            <a:ext cx="2819160" cy="1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8"/>
          </p:nvPr>
        </p:nvSpPr>
        <p:spPr>
          <a:xfrm>
            <a:off x="4116240" y="6400440"/>
            <a:ext cx="5335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00742-7329-411D-9324-BE092D7EBC80}" type="slidenum">
              <a:rPr b="0" lang="ru-RU" sz="10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9"/>
          </p:nvPr>
        </p:nvSpPr>
        <p:spPr>
          <a:xfrm>
            <a:off x="838080" y="6295680"/>
            <a:ext cx="28209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19080" y="66600"/>
            <a:ext cx="6732720" cy="507528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3"/>
          <p:cNvSpPr/>
          <p:nvPr/>
        </p:nvSpPr>
        <p:spPr>
          <a:xfrm>
            <a:off x="1908000" y="3860640"/>
            <a:ext cx="536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Профилактика и безнадзорности и правонарушений среди обучаю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4"/>
          <p:cNvSpPr/>
          <p:nvPr/>
        </p:nvSpPr>
        <p:spPr>
          <a:xfrm>
            <a:off x="340560" y="5732640"/>
            <a:ext cx="623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едагог-психолог :                                   Константинова Е.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ОБУ СОШ№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м.Е.В.Хлудеева г.Лабин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ик 2"/>
          <p:cNvSpPr/>
          <p:nvPr/>
        </p:nvSpPr>
        <p:spPr>
          <a:xfrm>
            <a:off x="179280" y="0"/>
            <a:ext cx="756144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entury Gothic"/>
                <a:ea typeface="Times New Roman"/>
              </a:rPr>
              <a:t>Памятка родителям от реб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балуйте меня, вы меня этим портит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очень хорошо знаю, что не обязательно предоставлять мне все, что я прош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росто испытываю ва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бойтесь быть твердым со мн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редпочитаю именно такой подход. Это позволяет мне определить свое мес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C:\Users\cvb\Desktop\333\88\podrostki.jpg"/>
          <p:cNvPicPr/>
          <p:nvPr/>
        </p:nvPicPr>
        <p:blipFill>
          <a:blip r:embed="rId1"/>
          <a:stretch/>
        </p:blipFill>
        <p:spPr>
          <a:xfrm>
            <a:off x="5508720" y="3645000"/>
            <a:ext cx="273672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Заголовок 1" descr=""/>
          <p:cNvPicPr/>
          <p:nvPr/>
        </p:nvPicPr>
        <p:blipFill>
          <a:blip r:embed="rId1"/>
          <a:stretch/>
        </p:blipFill>
        <p:spPr>
          <a:xfrm>
            <a:off x="396720" y="401760"/>
            <a:ext cx="8277480" cy="2963880"/>
          </a:xfrm>
          <a:prstGeom prst="rect">
            <a:avLst/>
          </a:prstGeom>
          <a:ln w="0">
            <a:noFill/>
          </a:ln>
        </p:spPr>
      </p:pic>
      <p:pic>
        <p:nvPicPr>
          <p:cNvPr id="184" name="Рисунок 2" descr="photo_5339549513741883887_y.jpg"/>
          <p:cNvPicPr/>
          <p:nvPr/>
        </p:nvPicPr>
        <p:blipFill>
          <a:blip r:embed="rId2"/>
          <a:stretch/>
        </p:blipFill>
        <p:spPr>
          <a:xfrm>
            <a:off x="2411280" y="3500280"/>
            <a:ext cx="338472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Рисунок 2" descr="Снимок.PNG"/>
          <p:cNvPicPr/>
          <p:nvPr/>
        </p:nvPicPr>
        <p:blipFill>
          <a:blip r:embed="rId1"/>
          <a:stretch/>
        </p:blipFill>
        <p:spPr>
          <a:xfrm>
            <a:off x="611280" y="1390680"/>
            <a:ext cx="7921440" cy="4702320"/>
          </a:xfrm>
          <a:prstGeom prst="rect">
            <a:avLst/>
          </a:prstGeom>
          <a:ln w="0">
            <a:noFill/>
          </a:ln>
        </p:spPr>
      </p:pic>
      <p:pic>
        <p:nvPicPr>
          <p:cNvPr id="186" name="Заголовок 1" descr=""/>
          <p:cNvPicPr/>
          <p:nvPr/>
        </p:nvPicPr>
        <p:blipFill>
          <a:blip r:embed="rId2"/>
          <a:stretch/>
        </p:blipFill>
        <p:spPr>
          <a:xfrm>
            <a:off x="542880" y="457200"/>
            <a:ext cx="805824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Выгнутая вправо стрелка 13"/>
          <p:cNvSpPr/>
          <p:nvPr/>
        </p:nvSpPr>
        <p:spPr>
          <a:xfrm rot="759000">
            <a:off x="6538680" y="1842840"/>
            <a:ext cx="2027160" cy="4537080"/>
          </a:xfrm>
          <a:custGeom>
            <a:avLst/>
            <a:gdLst>
              <a:gd name="textAreaLeft" fmla="*/ 271440 w 2027160"/>
              <a:gd name="textAreaRight" fmla="*/ 1755720 w 2027160"/>
              <a:gd name="textAreaTop" fmla="*/ 944280 h 4537080"/>
              <a:gd name="textAreaBottom" fmla="*/ 3339360 h 453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991" stAng="-5400000" swAng="5400000"/>
                <a:lnTo>
                  <a:pt x="21600" y="11403"/>
                </a:lnTo>
                <a:arcTo wR="21600" hR="8991" stAng="0" swAng="3491241"/>
                <a:lnTo>
                  <a:pt x="5400" y="21315"/>
                </a:lnTo>
                <a:lnTo>
                  <a:pt x="0" y="19187"/>
                </a:lnTo>
                <a:lnTo>
                  <a:pt x="5400" y="16489"/>
                </a:lnTo>
                <a:lnTo>
                  <a:pt x="5400" y="17696"/>
                </a:lnTo>
                <a:arcTo wR="21600" hR="8991" stAng="3491241" swAng="-3297754"/>
                <a:lnTo>
                  <a:pt x="21405" y="10197"/>
                </a:lnTo>
                <a:arcTo wR="21600" hR="8991" stAng="-193487" swAng="-5206513"/>
                <a:close/>
              </a:path>
              <a:path fill="darkenLess" w="21600" h="21600">
                <a:moveTo>
                  <a:pt x="0" y="0"/>
                </a:moveTo>
                <a:arcTo wR="21600" hR="8991" stAng="-5400000" swAng="5400000"/>
                <a:lnTo>
                  <a:pt x="21600" y="11403"/>
                </a:lnTo>
                <a:arcTo wR="21600" hR="8991" stAng="0" swAng="-193487"/>
                <a:lnTo>
                  <a:pt x="21405" y="10197"/>
                </a:lnTo>
                <a:arcTo wR="21600" hR="8991" stAng="-193487" swAng="-5206513"/>
                <a:close/>
              </a:path>
            </a:pathLst>
          </a:custGeom>
          <a:gradFill rotWithShape="0">
            <a:gsLst>
              <a:gs pos="0">
                <a:srgbClr val="edb4ea"/>
              </a:gs>
              <a:gs pos="100000">
                <a:srgbClr val="b67db3"/>
              </a:gs>
            </a:gsLst>
            <a:lin ang="15444000"/>
          </a:gradFill>
          <a:ln w="9360">
            <a:solidFill>
              <a:srgbClr val="b477b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Группа 3"/>
          <p:cNvGrpSpPr/>
          <p:nvPr/>
        </p:nvGrpSpPr>
        <p:grpSpPr>
          <a:xfrm>
            <a:off x="95400" y="476280"/>
            <a:ext cx="6960960" cy="6070680"/>
            <a:chOff x="95400" y="476280"/>
            <a:chExt cx="6960960" cy="6070680"/>
          </a:xfrm>
        </p:grpSpPr>
        <p:grpSp>
          <p:nvGrpSpPr>
            <p:cNvPr id="139" name="Группа 1"/>
            <p:cNvGrpSpPr/>
            <p:nvPr/>
          </p:nvGrpSpPr>
          <p:grpSpPr>
            <a:xfrm>
              <a:off x="606600" y="1863360"/>
              <a:ext cx="5613480" cy="4683600"/>
              <a:chOff x="606600" y="1863360"/>
              <a:chExt cx="5613480" cy="4683600"/>
            </a:xfrm>
          </p:grpSpPr>
          <p:pic>
            <p:nvPicPr>
              <p:cNvPr id="140" name="Picture 6" descr="ÐÐ°ÑÑÐ¸Ð½ÐºÐ¸ Ð¿Ð¾ Ð·Ð°Ð¿ÑÐ¾ÑÑ ÐºÐ¾Ð½ÑÐ»Ð¸ÐºÑ Ð² ÑÐºÐ¾Ð»Ðµ"/>
              <p:cNvPicPr/>
              <p:nvPr/>
            </p:nvPicPr>
            <p:blipFill>
              <a:blip r:embed="rId1"/>
              <a:stretch/>
            </p:blipFill>
            <p:spPr>
              <a:xfrm>
                <a:off x="606600" y="1936440"/>
                <a:ext cx="2270880" cy="2567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1" name="Pictur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3831840" y="1936440"/>
                <a:ext cx="2388240" cy="2616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" name="Pictur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4356360" y="4351680"/>
                <a:ext cx="1456200" cy="134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" name="Picture 4" descr="C:\Users\cvb\Desktop\уход из дома\214_operatsiya_podrostok.jpeg"/>
              <p:cNvPicPr/>
              <p:nvPr/>
            </p:nvPicPr>
            <p:blipFill>
              <a:blip r:embed="rId4"/>
              <a:stretch/>
            </p:blipFill>
            <p:spPr>
              <a:xfrm>
                <a:off x="2721240" y="5223600"/>
                <a:ext cx="1500840" cy="132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4" name="Picture 7" descr="Алена Викторовна Бугачевская - SAY.TV"/>
              <p:cNvPicPr/>
              <p:nvPr/>
            </p:nvPicPr>
            <p:blipFill>
              <a:blip r:embed="rId5"/>
              <a:stretch/>
            </p:blipFill>
            <p:spPr>
              <a:xfrm>
                <a:off x="2542680" y="3686760"/>
                <a:ext cx="1813320" cy="1536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5" name="Picture 2" descr="C:\Users\cvb\Desktop\уход из дома\Ребенок.jpg"/>
              <p:cNvPicPr/>
              <p:nvPr/>
            </p:nvPicPr>
            <p:blipFill>
              <a:blip r:embed="rId6"/>
              <a:stretch/>
            </p:blipFill>
            <p:spPr>
              <a:xfrm>
                <a:off x="790560" y="4241880"/>
                <a:ext cx="1645920" cy="145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6" name="Picture 2" descr="C:\Users\cvb\Desktop\уход из дома\shkolnitsa-sbezhala.jpg"/>
              <p:cNvPicPr/>
              <p:nvPr/>
            </p:nvPicPr>
            <p:blipFill>
              <a:blip r:embed="rId7"/>
              <a:stretch/>
            </p:blipFill>
            <p:spPr>
              <a:xfrm>
                <a:off x="2765880" y="1863360"/>
                <a:ext cx="1299960" cy="1920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7" name="Прямоугольник 11"/>
            <p:cNvSpPr/>
            <p:nvPr/>
          </p:nvSpPr>
          <p:spPr>
            <a:xfrm>
              <a:off x="95400" y="476280"/>
              <a:ext cx="696096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Прямоугольник 1"/>
          <p:cNvSpPr/>
          <p:nvPr/>
        </p:nvSpPr>
        <p:spPr>
          <a:xfrm>
            <a:off x="179280" y="115920"/>
            <a:ext cx="6624720" cy="24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«Лучший подарок, который можно сделать своему реденку, это счастливые и прочные отношения между родителями»  Джон Готтм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Если Вы хотите вырастить хороших детей, тратьте на них в два раза меньше денег и в два раза больше времен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стер Селсд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5" descr="C:\Users\cvb\Desktop\333\88\reading.jpg"/>
          <p:cNvPicPr/>
          <p:nvPr/>
        </p:nvPicPr>
        <p:blipFill>
          <a:blip r:embed="rId1"/>
          <a:stretch/>
        </p:blipFill>
        <p:spPr>
          <a:xfrm>
            <a:off x="900000" y="4076640"/>
            <a:ext cx="3032280" cy="18226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C:\Users\cvb\Desktop\333\88\hello_html_m2658f645.jpg"/>
          <p:cNvPicPr/>
          <p:nvPr/>
        </p:nvPicPr>
        <p:blipFill>
          <a:blip r:embed="rId2"/>
          <a:stretch/>
        </p:blipFill>
        <p:spPr>
          <a:xfrm>
            <a:off x="6156360" y="3573360"/>
            <a:ext cx="2279520" cy="2916360"/>
          </a:xfrm>
          <a:prstGeom prst="rect">
            <a:avLst/>
          </a:prstGeom>
          <a:ln w="0">
            <a:noFill/>
          </a:ln>
        </p:spPr>
      </p:pic>
      <p:sp>
        <p:nvSpPr>
          <p:cNvPr id="151" name="Прямоугольник 6"/>
          <p:cNvSpPr/>
          <p:nvPr/>
        </p:nvSpPr>
        <p:spPr>
          <a:xfrm>
            <a:off x="250920" y="58680"/>
            <a:ext cx="8281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егодня многие семьи переживают тяжелый кризис. Утрачено значительное число семейно-нравственных традиций, изменилось отношение родителей к детям. В новых кризисных условиях семья не готова взять на себя ответственность за воспитание детей, так как изменившиеся экономические условия заставляют родителей большей частью искать источники существования; а не заниматься вопросами воспитания детей в семье. В этой ситуации неустойчивые семьи стали более нестабильными и деградируют, фактически бросая своих детей на произвол судьб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еблагополучие семьи обычно отражается на всех сферах жизни ребенка: школьная успеваемость снижается, появляется отчуждение к школе, уличная компания становится заменой авторитета родителей, в ней ребенок старается получить призн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оугольник 3"/>
          <p:cNvSpPr/>
          <p:nvPr/>
        </p:nvSpPr>
        <p:spPr>
          <a:xfrm>
            <a:off x="179280" y="-171360"/>
            <a:ext cx="8499600" cy="27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читаю, что социальная профилактика несовершеннолетних (5-11 классов), формирование здорового образа жизни, законопослушного поведения, предотвращения правонарушений среди обучающихся в школе занимает ведущее направление в деятельности всего штаба воспитательной работы  (ШВР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хема взаимодействия следующа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Овал 5"/>
          <p:cNvGrpSpPr/>
          <p:nvPr/>
        </p:nvGrpSpPr>
        <p:grpSpPr>
          <a:xfrm>
            <a:off x="2693880" y="3565440"/>
            <a:ext cx="2828880" cy="2036880"/>
            <a:chOff x="2693880" y="3565440"/>
            <a:chExt cx="2828880" cy="2036880"/>
          </a:xfrm>
        </p:grpSpPr>
        <p:pic>
          <p:nvPicPr>
            <p:cNvPr id="154" name="Овал 5" descr=""/>
            <p:cNvPicPr/>
            <p:nvPr/>
          </p:nvPicPr>
          <p:blipFill>
            <a:blip r:embed="rId1"/>
            <a:stretch/>
          </p:blipFill>
          <p:spPr>
            <a:xfrm>
              <a:off x="2693880" y="3565440"/>
              <a:ext cx="2828880" cy="203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3111480" y="3868560"/>
              <a:ext cx="198612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ОБУЧАЮЩИЕ  ГРУППА РИСКА: (опекаемые,  все виды учета и результаты жизнестойкости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Овал 10"/>
          <p:cNvSpPr/>
          <p:nvPr/>
        </p:nvSpPr>
        <p:spPr>
          <a:xfrm>
            <a:off x="2700360" y="2349360"/>
            <a:ext cx="2519280" cy="1366920"/>
          </a:xfrm>
          <a:prstGeom prst="ellipse">
            <a:avLst/>
          </a:prstGeom>
          <a:gradFill rotWithShape="0">
            <a:gsLst>
              <a:gs pos="0">
                <a:srgbClr val="bef397"/>
              </a:gs>
              <a:gs pos="100000">
                <a:srgbClr val="eafae0"/>
              </a:gs>
            </a:gsLst>
            <a:lin ang="5400000"/>
          </a:gradFill>
          <a:ln w="15840">
            <a:solidFill>
              <a:srgbClr val="6e9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лассные руководители (Листы наблюдения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Овал 11"/>
          <p:cNvSpPr/>
          <p:nvPr/>
        </p:nvSpPr>
        <p:spPr>
          <a:xfrm>
            <a:off x="2700360" y="5489640"/>
            <a:ext cx="2519280" cy="1368360"/>
          </a:xfrm>
          <a:prstGeom prst="ellipse">
            <a:avLst/>
          </a:prstGeom>
          <a:gradFill rotWithShape="0">
            <a:gsLst>
              <a:gs pos="0">
                <a:srgbClr val="ffde80"/>
              </a:gs>
              <a:gs pos="100000">
                <a:srgbClr val="fff3da"/>
              </a:gs>
            </a:gsLst>
            <a:lin ang="16200000"/>
          </a:gradFill>
          <a:ln w="15840">
            <a:solidFill>
              <a:srgbClr val="6e9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дители  (запрос по ситуация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Овал 12"/>
          <p:cNvGrpSpPr/>
          <p:nvPr/>
        </p:nvGrpSpPr>
        <p:grpSpPr>
          <a:xfrm>
            <a:off x="5072040" y="3925800"/>
            <a:ext cx="2535120" cy="1530360"/>
            <a:chOff x="5072040" y="3925800"/>
            <a:chExt cx="2535120" cy="1530360"/>
          </a:xfrm>
        </p:grpSpPr>
        <p:pic>
          <p:nvPicPr>
            <p:cNvPr id="159" name="Овал 12" descr=""/>
            <p:cNvPicPr/>
            <p:nvPr/>
          </p:nvPicPr>
          <p:blipFill>
            <a:blip r:embed="rId2"/>
            <a:stretch/>
          </p:blipFill>
          <p:spPr>
            <a:xfrm>
              <a:off x="5072040" y="3925800"/>
              <a:ext cx="253512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5445000" y="4154400"/>
              <a:ext cx="1782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Школьный психолог (результаты тестирования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Овал 16"/>
          <p:cNvSpPr/>
          <p:nvPr/>
        </p:nvSpPr>
        <p:spPr>
          <a:xfrm>
            <a:off x="539640" y="3933720"/>
            <a:ext cx="2376720" cy="1656000"/>
          </a:xfrm>
          <a:prstGeom prst="ellipse">
            <a:avLst/>
          </a:prstGeom>
          <a:gradFill rotWithShape="0">
            <a:gsLst>
              <a:gs pos="0">
                <a:srgbClr val="ada69f"/>
              </a:gs>
              <a:gs pos="100000">
                <a:srgbClr val="e6e5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циальный педагог(КДН, ОПД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Двойная стрелка вверх/вниз 14"/>
          <p:cNvSpPr/>
          <p:nvPr/>
        </p:nvSpPr>
        <p:spPr>
          <a:xfrm rot="18924600">
            <a:off x="2205000" y="5051520"/>
            <a:ext cx="378000" cy="1154160"/>
          </a:xfrm>
          <a:prstGeom prst="upDownArrow">
            <a:avLst>
              <a:gd name="adj1" fmla="val 50000"/>
              <a:gd name="adj2" fmla="val 49984"/>
            </a:avLst>
          </a:prstGeom>
          <a:blipFill rotWithShape="0">
            <a:blip r:embed="rId3"/>
            <a:srcRect/>
            <a:tile tx="0" ty="0" sx="100000" sy="100000" algn="ctr"/>
          </a:blipFill>
          <a:ln w="15840">
            <a:solidFill>
              <a:srgbClr val="6e9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Двойная стрелка вверх/вниз 13"/>
          <p:cNvSpPr/>
          <p:nvPr/>
        </p:nvSpPr>
        <p:spPr>
          <a:xfrm rot="2920800">
            <a:off x="5109480" y="4968000"/>
            <a:ext cx="444600" cy="1249200"/>
          </a:xfrm>
          <a:prstGeom prst="upDownArrow">
            <a:avLst>
              <a:gd name="adj1" fmla="val 50000"/>
              <a:gd name="adj2" fmla="val 49976"/>
            </a:avLst>
          </a:prstGeom>
          <a:blipFill rotWithShape="0">
            <a:blip r:embed="rId4"/>
            <a:srcRect/>
            <a:tile tx="0" ty="0" sx="100000" sy="100000" algn="ctr"/>
          </a:blipFill>
          <a:ln w="15840">
            <a:solidFill>
              <a:srgbClr val="6e9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Двойная стрелка вверх/вниз 8"/>
          <p:cNvSpPr/>
          <p:nvPr/>
        </p:nvSpPr>
        <p:spPr>
          <a:xfrm rot="18924600">
            <a:off x="5243040" y="3022200"/>
            <a:ext cx="382680" cy="1251000"/>
          </a:xfrm>
          <a:prstGeom prst="upDownArrow">
            <a:avLst>
              <a:gd name="adj1" fmla="val 50000"/>
              <a:gd name="adj2" fmla="val 49989"/>
            </a:avLst>
          </a:prstGeom>
          <a:blipFill rotWithShape="0">
            <a:blip r:embed="rId5"/>
            <a:srcRect/>
            <a:tile tx="0" ty="0" sx="100000" sy="100000" algn="ctr"/>
          </a:blipFill>
          <a:ln w="15840">
            <a:solidFill>
              <a:srgbClr val="6e9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Двойная стрелка вверх/вниз 15"/>
          <p:cNvSpPr/>
          <p:nvPr/>
        </p:nvSpPr>
        <p:spPr>
          <a:xfrm rot="2668800">
            <a:off x="2315880" y="3133800"/>
            <a:ext cx="442800" cy="1139760"/>
          </a:xfrm>
          <a:prstGeom prst="upDownArrow">
            <a:avLst>
              <a:gd name="adj1" fmla="val 50000"/>
              <a:gd name="adj2" fmla="val 50014"/>
            </a:avLst>
          </a:prstGeom>
          <a:blipFill rotWithShape="0">
            <a:blip r:embed="rId6"/>
            <a:srcRect/>
            <a:tile tx="0" ty="0" sx="100000" sy="100000" algn="ctr"/>
          </a:blipFill>
          <a:ln w="15840">
            <a:solidFill>
              <a:srgbClr val="6e9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Прямоугольник 2"/>
          <p:cNvSpPr/>
          <p:nvPr/>
        </p:nvSpPr>
        <p:spPr>
          <a:xfrm>
            <a:off x="250920" y="2060640"/>
            <a:ext cx="5875200" cy="34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мление убежать из дома – это  возможно знак протеста, который чаще проявляется в среднем школьном возрасте (10 – 13 лет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т период психологический климат семьи имеет для ребенка очень большое знач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комфорт в отношениях с родителями воспринимается очень остро. Ребенок отныне выступает перед лицом общества самостоят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2"/>
          <p:cNvSpPr/>
          <p:nvPr/>
        </p:nvSpPr>
        <p:spPr>
          <a:xfrm>
            <a:off x="179280" y="404640"/>
            <a:ext cx="664704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убегают из дома из-за невыносимой домашней обстановки: постоянного физического, сексуального или эмоционального насилия, совершаемого над ни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6789600" y="703440"/>
            <a:ext cx="1884600" cy="2509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"/>
          <p:cNvPicPr/>
          <p:nvPr/>
        </p:nvPicPr>
        <p:blipFill>
          <a:blip r:embed="rId2"/>
          <a:stretch/>
        </p:blipFill>
        <p:spPr>
          <a:xfrm>
            <a:off x="6499080" y="3500280"/>
            <a:ext cx="2175120" cy="32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1"/>
          <p:cNvSpPr/>
          <p:nvPr/>
        </p:nvSpPr>
        <p:spPr>
          <a:xfrm>
            <a:off x="684360" y="11592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сновная причина правонарушений и ухода из до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"/>
          <p:cNvSpPr/>
          <p:nvPr/>
        </p:nvSpPr>
        <p:spPr>
          <a:xfrm>
            <a:off x="144360" y="1425600"/>
            <a:ext cx="58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ще всего поводом уйти из дома становится игнорирование потребностей ребёнка, в основе которого лежит отсутствие взаимопонимания с родител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сновном, уходят подростки 10-17 л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2"/>
          <p:cNvSpPr/>
          <p:nvPr/>
        </p:nvSpPr>
        <p:spPr>
          <a:xfrm>
            <a:off x="166680" y="3733920"/>
            <a:ext cx="5365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онно подростковый возраст считается трудным периодом, когда подросток, несмотря на внешнюю браваду, грубость и агрессивность, на самом деле крайне раним и беззащите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9" descr="C:\Users\cvb\Desktop\333\подростк рисунки\boy-backpack-vector-drawing-walking-43216738.jpg"/>
          <p:cNvPicPr/>
          <p:nvPr/>
        </p:nvPicPr>
        <p:blipFill>
          <a:blip r:embed="rId1"/>
          <a:srcRect l="0" t="0" r="59" b="0"/>
          <a:stretch/>
        </p:blipFill>
        <p:spPr>
          <a:xfrm>
            <a:off x="5940360" y="1341360"/>
            <a:ext cx="2303640" cy="4505400"/>
          </a:xfrm>
          <a:prstGeom prst="rect">
            <a:avLst/>
          </a:prstGeom>
          <a:ln w="0">
            <a:noFill/>
          </a:ln>
        </p:spPr>
      </p:pic>
      <p:sp>
        <p:nvSpPr>
          <p:cNvPr id="174" name="Выгнутая влево стрелка 5"/>
          <p:cNvSpPr/>
          <p:nvPr/>
        </p:nvSpPr>
        <p:spPr>
          <a:xfrm flipH="1">
            <a:off x="7092360" y="836640"/>
            <a:ext cx="1655640" cy="4790880"/>
          </a:xfrm>
          <a:custGeom>
            <a:avLst/>
            <a:gdLst>
              <a:gd name="textAreaLeft" fmla="*/ 221760 w 1655640"/>
              <a:gd name="textAreaRight" fmla="*/ 1433880 w 1655640"/>
              <a:gd name="textAreaTop" fmla="*/ 1042560 h 4790880"/>
              <a:gd name="textAreaBottom" fmla="*/ 3541680 h 479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401" stAng="-5400000" swAng="-5400000"/>
                <a:lnTo>
                  <a:pt x="0" y="11267"/>
                </a:lnTo>
                <a:arcTo wR="21600" hR="9401" stAng="10800000" swAng="-3559220"/>
                <a:lnTo>
                  <a:pt x="16200" y="21301"/>
                </a:lnTo>
                <a:lnTo>
                  <a:pt x="21600" y="19734"/>
                </a:lnTo>
                <a:lnTo>
                  <a:pt x="16200" y="17569"/>
                </a:lnTo>
                <a:lnTo>
                  <a:pt x="16200" y="18502"/>
                </a:lnTo>
                <a:arcTo wR="21600" hR="9401" stAng="7240780" swAng="3410086"/>
                <a:lnTo>
                  <a:pt x="107" y="10334"/>
                </a:lnTo>
                <a:arcTo wR="21600" hR="9401" stAng="-10650865" swAng="5250865"/>
                <a:close/>
              </a:path>
              <a:path fill="darkenLess" w="21600" h="21600">
                <a:moveTo>
                  <a:pt x="21600" y="0"/>
                </a:moveTo>
                <a:arcTo wR="21600" hR="9401" stAng="-5400000" swAng="-5400000"/>
                <a:lnTo>
                  <a:pt x="0" y="9401"/>
                </a:lnTo>
                <a:arcTo wR="21600" hR="9401" stAng="10800000" swAng="-149135"/>
                <a:lnTo>
                  <a:pt x="107" y="10334"/>
                </a:lnTo>
                <a:arcTo wR="21600" hR="9401" stAng="-10650865" swAng="5250865"/>
                <a:close/>
              </a:path>
            </a:pathLst>
          </a:custGeom>
          <a:solidFill>
            <a:srgbClr val="d9d9d9"/>
          </a:solidFill>
          <a:ln w="15840">
            <a:solidFill>
              <a:srgbClr val="6e9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Прямоугольник 2"/>
          <p:cNvSpPr/>
          <p:nvPr/>
        </p:nvSpPr>
        <p:spPr>
          <a:xfrm>
            <a:off x="395280" y="333360"/>
            <a:ext cx="82090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оя деятельность по профилактике безнадзорности и правонарушений обучающихся в возрасте (8 - 15 лет) основыва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. Выявление асоциальных и неблагополучных детей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 помощью листов наблюден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2. Выявление и устранение причин социальной дезадаптации де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3.Создание эффективной системы социальной поддержки детей и подростков группы риска, направленной на решение проблем детской и подростковой безнадзорности и преступности совместно с социальным педагог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4. Повышение правовой культуры и социально-педагогической компетенции родителей (законных представителей) обучающихся(классные часы, родительские собрания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5. Сотрудничество с социальными службами (КДН, ОПДН) заинтересованных в решении проблем безнадзорности и правонарушений в детской сред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1"/>
          <p:cNvSpPr/>
          <p:nvPr/>
        </p:nvSpPr>
        <p:spPr>
          <a:xfrm>
            <a:off x="250920" y="260280"/>
            <a:ext cx="8531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боте с учащимися, склонными к правонарушениям, к бродяжничеству, совершившим правонарушения и преступления, особое внимание уделяется таким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55680" algn="just">
              <a:lnSpc>
                <a:spcPct val="100000"/>
              </a:lnSpc>
              <a:buClr>
                <a:srgbClr val="000000"/>
              </a:buClr>
              <a:buSzPct val="5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ое консультирование детей и родителей (законных представителе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55680" algn="just">
              <a:lnSpc>
                <a:spcPct val="100000"/>
              </a:lnSpc>
              <a:buClr>
                <a:srgbClr val="000000"/>
              </a:buClr>
              <a:buSzPct val="5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ативные вст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55680" algn="just">
              <a:lnSpc>
                <a:spcPct val="100000"/>
              </a:lnSpc>
              <a:buClr>
                <a:srgbClr val="000000"/>
              </a:buClr>
              <a:buSzPct val="5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вещение детей и род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55680" algn="just">
              <a:lnSpc>
                <a:spcPct val="100000"/>
              </a:lnSpc>
              <a:buClr>
                <a:srgbClr val="000000"/>
              </a:buClr>
              <a:buSzPct val="5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щение педагогических рекомендаций, обсуждение тем воспитания детей в сообществе электронной сети «ВКонтакте» (закрытые группы класс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C:\Users\cvb\Desktop\333\88\мама-папы-и-сын-семья-супруг-жена-с-ребенком-шуточный-чертеж-148296816.jpg"/>
          <p:cNvPicPr/>
          <p:nvPr/>
        </p:nvPicPr>
        <p:blipFill>
          <a:blip r:embed="rId1"/>
          <a:stretch/>
        </p:blipFill>
        <p:spPr>
          <a:xfrm>
            <a:off x="6443640" y="3933720"/>
            <a:ext cx="196524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ик 6"/>
          <p:cNvSpPr/>
          <p:nvPr/>
        </p:nvSpPr>
        <p:spPr>
          <a:xfrm>
            <a:off x="468360" y="-243000"/>
            <a:ext cx="72914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8" descr="C:\Users\cvb\Desktop\333\подростк рисунки\20170504-ask-transp.png"/>
          <p:cNvPicPr/>
          <p:nvPr/>
        </p:nvPicPr>
        <p:blipFill>
          <a:blip r:embed="rId1"/>
          <a:stretch/>
        </p:blipFill>
        <p:spPr>
          <a:xfrm>
            <a:off x="5003640" y="3754440"/>
            <a:ext cx="3492720" cy="2290680"/>
          </a:xfrm>
          <a:prstGeom prst="rect">
            <a:avLst/>
          </a:prstGeom>
          <a:ln w="0">
            <a:noFill/>
          </a:ln>
        </p:spPr>
      </p:pic>
      <p:sp>
        <p:nvSpPr>
          <p:cNvPr id="180" name="Прямоугольник 2"/>
          <p:cNvSpPr/>
          <p:nvPr/>
        </p:nvSpPr>
        <p:spPr>
          <a:xfrm>
            <a:off x="92160" y="0"/>
            <a:ext cx="8567640" cy="63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авила, которые помогают наладить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 поддерживать в семье бесконфликтную дисципли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2000"/>
              </a:lnSpc>
              <a:buClr>
                <a:srgbClr val="000000"/>
              </a:buClr>
              <a:buSzPct val="41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(ограничения, требования, запреты) обязательно должны быть в жизни ребё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2000"/>
              </a:lnSpc>
              <a:buClr>
                <a:srgbClr val="000000"/>
              </a:buClr>
              <a:buSzPct val="41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 (ограничений, требований, запретов) не должно быть слишком много, и они должны быть гибк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2000"/>
              </a:lnSpc>
              <a:buClr>
                <a:srgbClr val="000000"/>
              </a:buClr>
              <a:buSzPct val="41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ьские требования не должны вступать в явное противоречие с важнейшими потребностями ребёнка (движение, познание, упражнени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2000"/>
              </a:lnSpc>
              <a:buClr>
                <a:srgbClr val="000000"/>
              </a:buClr>
              <a:buSzPct val="41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(ограничения, требования, запреты) должны быть согласованы взрослыми между со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2000"/>
              </a:lnSpc>
              <a:buClr>
                <a:srgbClr val="000000"/>
              </a:buClr>
              <a:buSzPct val="41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н, в котором сообщается требование или запрет, должен быть скорее дружественно-разъяснительным, чем повелитель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Ц</dc:creator>
  <dc:description/>
  <dc:language>en-US</dc:language>
  <cp:lastModifiedBy>Пользователь</cp:lastModifiedBy>
  <dcterms:modified xsi:type="dcterms:W3CDTF">2024-02-26T06:30:49Z</dcterms:modified>
  <cp:revision>110</cp:revision>
  <dc:subject/>
  <dc:title>Профилактика безнадзорности детей и подростк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973899</vt:lpwstr>
  </property>
  <property fmtid="{D5CDD505-2E9C-101B-9397-08002B2CF9AE}" pid="3" name="NXPowerLiteSettings">
    <vt:lpwstr>F6000400038000</vt:lpwstr>
  </property>
  <property fmtid="{D5CDD505-2E9C-101B-9397-08002B2CF9AE}" pid="4" name="NXPowerLiteVersion">
    <vt:lpwstr>D4.3.1</vt:lpwstr>
  </property>
</Properties>
</file>